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7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56C-B751-438C-9AC0-7CEA141B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91E-CBE6-4CED-90C0-655C2809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F7F-EB88-4872-B754-9784013E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454-8881-4EF3-859B-5E1EB040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830-58E3-4BC0-B99E-B1B251F1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E92-94B1-4366-83B1-341F1E9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B00-4C43-460B-81A1-C1173BD8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0C9-F281-4EC2-B77B-FDF52797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432-74AE-49EB-B36D-FA69C7B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3EC-2DF9-480D-BEC3-16F2312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F54-908E-489F-B0D4-7875D68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B3E-542B-4ECC-B3B8-4F6940C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53E-9E93-4B55-8A5E-128DE8310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3-17T16:24:37Z</dcterms:modified>
  <cp:revision>6</cp:revision>
  <dc:subject/>
  <dc:title>Polly the Parrot</dc:title>
</cp:coreProperties>
</file>